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B98A-A4EE-41DD-94D7-A6E72E28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3D5-36F9-4958-B777-DE5725935B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6E0-CB32-4952-955A-360F5EAA8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43DB-DBD6-4B58-9E33-E80C0DEF7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387-F4ED-40F9-98B7-D1F393E59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3783-3F32-4483-836D-68A72DB44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CAA-A15A-49F4-9C45-13A3E2D0C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7DE1-1B83-4268-AB16-51255DD94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6A5-2F46-40A8-9216-52BD225E82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06B-1B1A-4162-83F8-48238BD6AA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CA4-08F2-497B-B058-E6B6CA72DC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170-FB7D-48F0-A34D-98C77A3A4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9A38-DDBB-4901-84E0-DC14166040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27A-FE7E-47B2-AA76-CCA57E384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E45-1F55-47C8-8BD0-D10F8CD0A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1B34-3265-4A3C-8CD4-BFC7B7C44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C2C-1042-43F0-9CB9-83484B326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B661-E9A6-4432-9F67-A2D1BC8EB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F00-D8AE-43AC-A3F3-CC7FDC9E2F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286-C9F6-4966-BB0C-DB223BC6D6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406-7111-4C8E-8E80-5639DE8A9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0CE-7D1D-43F3-8420-DD4C815FB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50C-F9EF-4171-846B-59320C546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0A4-4FEC-4D04-862A-62B86CF5D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8FAC-4420-4B2F-A06B-C94C313BB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ABC7-6AC3-42BE-87E7-674DF68F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F32D-E4D2-4709-9B46-832E062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1A0E-91FB-40D1-A751-A29F6E1E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9184-F900-49F6-975C-E245822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6ABB-6C75-415B-ACF2-B1226FF5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ADA-1532-4E20-885C-8792FF8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A0B4-04E3-41B5-9487-F66D6DD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3EE-6330-4C0A-B3ED-4DECAA1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F67-EDF3-4BF5-BBBD-8E479F27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AC86-7291-47C1-8B5A-3CA5D69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D720-D807-4E4C-8693-941ED8C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6D21-1F66-4B41-BB27-46B2EA4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2A4E-3AC0-4EED-9A3A-4796064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0CB-30F6-4BB0-B19F-E255512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F6B0-D510-4481-A8D9-3566496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FBEB-9B87-4207-BA97-E9B4D6A4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AEA8-4F98-4B3E-A3C9-9C267874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569E-80EB-4F75-88D9-B9D3261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9179-B5B2-436A-AB40-05224CE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EA12-392E-4EE2-83B4-AFCCEA52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D738-1A7E-46E1-8F34-DA3D6CB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C796-D6D6-4581-B74F-E9B8FF13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B012-3C08-4D2A-9487-63C4653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0DB7-EDA8-441E-8AD9-C1397ED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085-CCC8-4454-9584-F8C11FD9E4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FFF3-1255-481E-B2E7-B7666F78F9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t 7240</a:t>
            </a:r>
            <a:br>
              <a:rPr sz="6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rol Mart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Social Media evaluatio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8cae2"/>
                </a:solidFill>
                <a:latin typeface="Tahoma"/>
              </a:rPr>
              <a:t>Nitrogen 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244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0" y="52578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743200" y="3581280"/>
            <a:ext cx="175248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457200" y="3581280"/>
            <a:ext cx="21337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6324480" y="1981080"/>
            <a:ext cx="175284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mid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5334120" y="3733920"/>
            <a:ext cx="175248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tos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7238880" y="3733920"/>
            <a:ext cx="160020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ym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1752480" y="1917720"/>
            <a:ext cx="152424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n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44"/>
          <p:cNvSpPr/>
          <p:nvPr/>
        </p:nvSpPr>
        <p:spPr>
          <a:xfrm flipH="1">
            <a:off x="1294920" y="28954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46"/>
          <p:cNvSpPr/>
          <p:nvPr/>
        </p:nvSpPr>
        <p:spPr>
          <a:xfrm>
            <a:off x="2895480" y="289548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8"/>
          <p:cNvSpPr/>
          <p:nvPr/>
        </p:nvSpPr>
        <p:spPr>
          <a:xfrm flipH="1">
            <a:off x="6095520" y="2895480"/>
            <a:ext cx="7621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49"/>
          <p:cNvSpPr/>
          <p:nvPr/>
        </p:nvSpPr>
        <p:spPr>
          <a:xfrm>
            <a:off x="7467480" y="2971800"/>
            <a:ext cx="8384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50"/>
          <p:cNvSpPr/>
          <p:nvPr/>
        </p:nvSpPr>
        <p:spPr>
          <a:xfrm flipH="1">
            <a:off x="2705040" y="1101600"/>
            <a:ext cx="81432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51"/>
          <p:cNvSpPr/>
          <p:nvPr/>
        </p:nvSpPr>
        <p:spPr>
          <a:xfrm>
            <a:off x="5799240" y="1077840"/>
            <a:ext cx="1228680" cy="85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Pairing of bas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 base will only form a bond (hydrogen) with its complementary 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             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Tahoma"/>
              </a:rPr>
              <a:t>Base pairing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 Purine must pair with pyrimi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denine will pair with 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uanine will pair with Cytos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Made up of subunits called nucleot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6" descr="nucleotide 2"/>
          <p:cNvPicPr/>
          <p:nvPr/>
        </p:nvPicPr>
        <p:blipFill>
          <a:blip r:embed="rId1"/>
          <a:stretch/>
        </p:blipFill>
        <p:spPr>
          <a:xfrm>
            <a:off x="1295280" y="2057400"/>
            <a:ext cx="5677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chain of nucleot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1365120" y="3268800"/>
            <a:ext cx="238320" cy="2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1828800" y="3595320"/>
            <a:ext cx="75096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278000" y="3695760"/>
            <a:ext cx="387360" cy="66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278000" y="4735440"/>
            <a:ext cx="2509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854360" y="5097600"/>
            <a:ext cx="7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Two Stran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6240" y="139860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B  B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B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 B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 B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50720" y="1816200"/>
            <a:ext cx="363600" cy="35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252440" y="2417400"/>
            <a:ext cx="9144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549360" y="2517840"/>
            <a:ext cx="350640" cy="30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500040" y="3006720"/>
            <a:ext cx="4269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14440" y="3570120"/>
            <a:ext cx="425520" cy="3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12920" y="4021200"/>
            <a:ext cx="439560" cy="36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550440" y="4599000"/>
            <a:ext cx="412920" cy="3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1880" y="5160960"/>
            <a:ext cx="414360" cy="338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3"/>
          <p:cNvSpPr/>
          <p:nvPr/>
        </p:nvSpPr>
        <p:spPr>
          <a:xfrm flipV="1">
            <a:off x="1038240" y="3444480"/>
            <a:ext cx="11034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065240" y="4484520"/>
            <a:ext cx="101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1050840" y="5636880"/>
            <a:ext cx="102708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3669840" y="1866960"/>
            <a:ext cx="714600" cy="38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17"/>
          <p:cNvSpPr/>
          <p:nvPr/>
        </p:nvSpPr>
        <p:spPr>
          <a:xfrm flipH="1">
            <a:off x="3593880" y="2994120"/>
            <a:ext cx="73980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3546360" y="2405160"/>
            <a:ext cx="876240" cy="4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3621240" y="3521160"/>
            <a:ext cx="750600" cy="463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3708000" y="4146480"/>
            <a:ext cx="676440" cy="42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3732120" y="4597560"/>
            <a:ext cx="576360" cy="36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3857400" y="5122800"/>
            <a:ext cx="501480" cy="38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643120" y="2343240"/>
            <a:ext cx="72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2805120" y="3432240"/>
            <a:ext cx="66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5"/>
          <p:cNvSpPr/>
          <p:nvPr/>
        </p:nvSpPr>
        <p:spPr>
          <a:xfrm flipV="1">
            <a:off x="2868480" y="4471560"/>
            <a:ext cx="7016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2868480" y="5548320"/>
            <a:ext cx="77652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5369040" y="2073240"/>
            <a:ext cx="234792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Hel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6653160" y="3205080"/>
            <a:ext cx="24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5568840" y="1685880"/>
            <a:ext cx="22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883120" y="31021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5745240" y="3348000"/>
            <a:ext cx="235116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nucleotide ch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012000" y="2668680"/>
            <a:ext cx="527040" cy="63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Processes of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5440" y="1562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The process of Synthesizing a new strand of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Main process of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600" spc="-1" strike="noStrike">
                <a:solidFill>
                  <a:srgbClr val="66ffff"/>
                </a:solidFill>
                <a:latin typeface="Tahoma"/>
              </a:rPr>
              <a:t>Repl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The double helix must unwind (enzymes) separating into two str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Each strand is used as a template to build a complementary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Complementary bases are added to the exposed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Each new double helix consist of one old strand of DNA to one new DNA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ik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738080"/>
            <a:ext cx="890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od f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wer points from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vide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elcome to Wikispaces - Free Wikis for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communication tool between staff with in the same bui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er than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and sweet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answers (ask question/get answe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-Tube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Inexpensive way to make a short vid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Good source for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tudents can make with their cell phones and post on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Demonstrations of l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 Point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27280"/>
            <a:ext cx="82296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ide Sh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o share power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e 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e lab demo- tutor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odcast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 for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music u-tube, itunes or garage b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o speeches down loa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s 1. hearing impaired students    (interpre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visual impaired stud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gital Storytell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tur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mus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any discip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:  similar to podcas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dmodo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7120" y="24526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Education 2.0 - Edmodo - Free Private Microblogging For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b casting Environ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m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bound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4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need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line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elcome to Wikispaces - Free Wikis for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56204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46745" dir="18316873" blurRad="0" rotWithShape="0">
              <a:srgbClr val="602000">
                <a:alpha val="7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Tahoma"/>
              </a:rPr>
              <a:t>The Structure of D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escribe the composition and structure of a DNA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Summarize the process of DNA repl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What is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66ffff"/>
                </a:solidFill>
                <a:latin typeface="Tahoma"/>
              </a:rPr>
              <a:t>Deoxyribonucleic aci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022040" y="-762480"/>
            <a:ext cx="17128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176480" y="1214280"/>
            <a:ext cx="3504960" cy="1295640"/>
          </a:xfrm>
          <a:custGeom>
            <a:avLst/>
            <a:gdLst>
              <a:gd name="textAreaLeft" fmla="*/ 0 w 3504960"/>
              <a:gd name="textAreaRight" fmla="*/ 3505320 w 350496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5186520" y="4692600"/>
            <a:ext cx="3733560" cy="1295280"/>
          </a:xfrm>
          <a:custGeom>
            <a:avLst/>
            <a:gdLst>
              <a:gd name="textAreaLeft" fmla="*/ 0 w 3733560"/>
              <a:gd name="textAreaRight" fmla="*/ 3733920 w 37335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111480" y="2859120"/>
            <a:ext cx="3733920" cy="1219320"/>
          </a:xfrm>
          <a:custGeom>
            <a:avLst/>
            <a:gdLst>
              <a:gd name="textAreaLeft" fmla="*/ 50760 w 3733920"/>
              <a:gd name="textAreaRight" fmla="*/ 3785040 w 373392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294" y="1400"/>
                </a:moveTo>
                <a:cubicBezTo>
                  <a:pt x="7347" y="-3560"/>
                  <a:pt x="14547" y="6360"/>
                  <a:pt x="21600" y="1400"/>
                </a:cubicBezTo>
                <a:lnTo>
                  <a:pt x="21306" y="20200"/>
                </a:lnTo>
                <a:cubicBezTo>
                  <a:pt x="14253" y="25160"/>
                  <a:pt x="7053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-2109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Compon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2514600" y="2133720"/>
            <a:ext cx="4419720" cy="2743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495680" y="5105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Sug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Ribose – a five carbon su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3276720" y="3519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498760" y="2583000"/>
            <a:ext cx="167652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3325680" y="4152960"/>
            <a:ext cx="2286000" cy="1371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ib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733920" y="5486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2"/>
          <p:cNvSpPr/>
          <p:nvPr/>
        </p:nvSpPr>
        <p:spPr>
          <a:xfrm flipV="1">
            <a:off x="5562720" y="38095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Nitrogen 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066760" y="272556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09680" y="3276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2209680" y="3733920"/>
            <a:ext cx="2210040" cy="12952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4419720" y="3276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 rot="20415000">
            <a:off x="495252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 rot="16734600">
            <a:off x="4091040" y="2385720"/>
            <a:ext cx="961920" cy="914400"/>
          </a:xfrm>
          <a:prstGeom prst="pentagon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1447920" y="2209680"/>
            <a:ext cx="1447560" cy="106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969160" y="232416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33:16Z</dcterms:created>
  <dc:creator>tpatni</dc:creator>
  <dc:description/>
  <dc:language>en-US</dc:language>
  <cp:lastModifiedBy>College of Education</cp:lastModifiedBy>
  <dcterms:modified xsi:type="dcterms:W3CDTF">2009-08-08T18:33:32Z</dcterms:modified>
  <cp:revision>10</cp:revision>
  <dc:subject/>
  <dc:title>The Structure of DNA</dc:title>
</cp:coreProperties>
</file>